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99520" y="20448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8524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95200" y="3742200"/>
            <a:ext cx="8524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99520" y="20448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344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95200" y="374220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3440" y="374220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99520" y="20448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77360" y="148896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59880" y="148896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95200" y="374220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77360" y="374220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59880" y="374220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99520" y="20448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295200" y="1488960"/>
            <a:ext cx="8524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99520" y="20448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8524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99520" y="20448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4159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63440" y="1488960"/>
            <a:ext cx="4159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99520" y="20448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299520" y="204480"/>
            <a:ext cx="852012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99520" y="20448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3440" y="1488960"/>
            <a:ext cx="4159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295200" y="374220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99520" y="20448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95200" y="1488960"/>
            <a:ext cx="8524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99520" y="20448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4159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344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63440" y="374220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99520" y="20448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344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295200" y="3742200"/>
            <a:ext cx="8524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99520" y="20448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8524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295200" y="3742200"/>
            <a:ext cx="8524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99520" y="20448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344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95200" y="374220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63440" y="374220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99520" y="20448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77360" y="148896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59880" y="148896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295200" y="374220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77360" y="374220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59880" y="374220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99520" y="20448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8524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99520" y="20448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4159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3440" y="1488960"/>
            <a:ext cx="4159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99520" y="20448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99520" y="204480"/>
            <a:ext cx="852012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99520" y="20448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3440" y="1488960"/>
            <a:ext cx="4159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95200" y="374220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99520" y="20448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4159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344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3440" y="374220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99520" y="20448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344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95200" y="3742200"/>
            <a:ext cx="8524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95200" y="1488960"/>
            <a:ext cx="8524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1080" indent="-181080">
              <a:spcAft>
                <a:spcPts val="10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262080">
              <a:spcAft>
                <a:spcPts val="10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274680"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87480" indent="-265320">
              <a:spcAft>
                <a:spcPts val="10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54240" indent="-265320">
              <a:spcAft>
                <a:spcPts val="1001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54240" indent="-265320">
              <a:spcAft>
                <a:spcPts val="1001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54240" indent="-265320">
              <a:spcAft>
                <a:spcPts val="1001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3124080" y="6365880"/>
            <a:ext cx="28958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299520" y="20448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219240" y="6365880"/>
            <a:ext cx="134280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0" lang="de-DE" sz="1000" spc="-1" strike="noStrike">
                <a:solidFill>
                  <a:srgbClr val="000000"/>
                </a:solidFill>
                <a:latin typeface="Wingdings"/>
                <a:ea typeface="Wingdings"/>
              </a:rPr>
              <a:t>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fld id="{A5DC40FD-BB60-49A6-A6CC-E97A22D0A726}" type="slidenum">
              <a:rPr b="0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295200" y="1488960"/>
            <a:ext cx="8524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1080" indent="-181080">
              <a:spcAft>
                <a:spcPts val="10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262080">
              <a:spcAft>
                <a:spcPts val="10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274680"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87480" indent="-265320">
              <a:spcAft>
                <a:spcPts val="10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54240" indent="-265320">
              <a:spcAft>
                <a:spcPts val="1001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54240" indent="-265320">
              <a:spcAft>
                <a:spcPts val="1001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54240" indent="-265320">
              <a:spcAft>
                <a:spcPts val="1001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title"/>
          </p:nvPr>
        </p:nvSpPr>
        <p:spPr>
          <a:xfrm>
            <a:off x="299520" y="20448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250920" y="2060280"/>
            <a:ext cx="8642160" cy="46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1080" indent="-1810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ГРИСАНЕ АКАДЕМСКЕ СТУДИЈ</a:t>
            </a: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1" lang="sr-CS" sz="4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СТОМАТОЛОГИЈЕ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тврти</a:t>
            </a:r>
            <a:r>
              <a:rPr b="0" lang="sr-C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блок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АЛНА ПАТОЛОГИЈА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3" descr="logo medicinski"/>
          <p:cNvPicPr/>
          <p:nvPr/>
        </p:nvPicPr>
        <p:blipFill>
          <a:blip r:embed="rId1"/>
          <a:stretch/>
        </p:blipFill>
        <p:spPr>
          <a:xfrm>
            <a:off x="4067280" y="260280"/>
            <a:ext cx="914400" cy="14637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99520" y="20448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Болести параодонцијума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8524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108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3. Развијена лез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- настаје три недеље после формирања пла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- гингивални сулкус се продубљуј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- субгингивални плак се шир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- гингиву инфилтришу лимфоццити и плазма ћелије а колагена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влакна се губ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- продубљени сулкус са припојним епителом који је одвоје од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глеђи назива се </a:t>
            </a:r>
            <a:r>
              <a:rPr b="0" i="1" lang="sr-CS" sz="2000" spc="-1" strike="noStrike">
                <a:solidFill>
                  <a:srgbClr val="000000"/>
                </a:solidFill>
                <a:latin typeface="Arial"/>
              </a:rPr>
              <a:t>гингивални џе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99520" y="20448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Болести параодонцијума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Picture 4" descr="a"/>
          <p:cNvPicPr/>
          <p:nvPr/>
        </p:nvPicPr>
        <p:blipFill>
          <a:blip r:embed="rId1"/>
          <a:stretch/>
        </p:blipFill>
        <p:spPr>
          <a:xfrm>
            <a:off x="1460520" y="1395360"/>
            <a:ext cx="6162480" cy="421812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5"/>
          <p:cNvSpPr/>
          <p:nvPr/>
        </p:nvSpPr>
        <p:spPr>
          <a:xfrm>
            <a:off x="1035720" y="5645160"/>
            <a:ext cx="701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Запаљење и атрифија гингиве у пределу доњих секутић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99520" y="20448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Болести параодонцијума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Picture 4" descr="52"/>
          <p:cNvPicPr/>
          <p:nvPr/>
        </p:nvPicPr>
        <p:blipFill>
          <a:blip r:embed="rId1"/>
          <a:stretch/>
        </p:blipFill>
        <p:spPr>
          <a:xfrm>
            <a:off x="384120" y="1703520"/>
            <a:ext cx="2930760" cy="39304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53"/>
          <p:cNvPicPr/>
          <p:nvPr/>
        </p:nvPicPr>
        <p:blipFill>
          <a:blip r:embed="rId2"/>
          <a:stretch/>
        </p:blipFill>
        <p:spPr>
          <a:xfrm>
            <a:off x="3225960" y="1711440"/>
            <a:ext cx="2879640" cy="39891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6" descr="54"/>
          <p:cNvPicPr/>
          <p:nvPr/>
        </p:nvPicPr>
        <p:blipFill>
          <a:blip r:embed="rId3"/>
          <a:stretch/>
        </p:blipFill>
        <p:spPr>
          <a:xfrm>
            <a:off x="6013440" y="1650960"/>
            <a:ext cx="2779560" cy="395604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7"/>
          <p:cNvSpPr/>
          <p:nvPr/>
        </p:nvSpPr>
        <p:spPr>
          <a:xfrm>
            <a:off x="3000960" y="5676840"/>
            <a:ext cx="267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Хронични гингивити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99520" y="20448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Болести параодонцијума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8524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108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Разликовање гингивитиса и периодонтитиса је клиничи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важно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Гингивитис је реверзибила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ериодонтална деструкција је и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верзибилан процес који се може успорити и евентуално зауставити оперативним отклањањем гингивалног плака и каменц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знапредовала лезија гингивитиса односно четврта фаза развоја гингивитиса је хронични периодонтитис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99520" y="20448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Болести параодонцијума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8524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108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АРОДОНТОПАТИЈ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ародонтопатије су обољења где су захваћени сви елементи пародонцију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едилекциона места с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- лабиална површина предњих зуб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- палатинална површина горњих молара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99520" y="20448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Болести параодонцијума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8524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108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ЕТИОЛОГИЈА ПАРОДОНТОПАТИЈ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Круцијални узрочник пародонтопатије је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дентални пла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ви фактори који фаворизују настанак денталног плака и деловање штетних агенаса који су његов саставни део и убрзавају акумулацију истог доприносе развоју пародонтопатиј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99520" y="20448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Болести параодонцијума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8524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108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пшти фактори који узрокују пародонтопатиј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1. хормонски поремећај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2. авитаминоз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3. алергијски процес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4. тровање тешким метали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5. старењ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99520" y="20448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Болести параодонцијума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8524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108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Локални фактори као узрочници пародонтопатиј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1. дентални пла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2. зубни камена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3. денталне аномалије и д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99520" y="20448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Болести параодонцијума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8524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108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атолошке промене које се јављају у току пародонтопатиј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- инфламација гингив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- атрофија и дегенеративни процеси гингив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- пародонтални џепови и гнојни ексудат у њи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- субгингивални конкременти на површини корена зуб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- лабављење зуб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- патолошка миграција зуб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99520" y="20448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Болести параодонцијума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8524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108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АТОГЕНЕЗА ПАРОДОНТОПАТИЈ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имарно оштећење гингиве проузрокују микроорганизми денталног плака са развојем ексудативног запаљења и васкуларном реакциј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Ендтокосини бактерија узрокују оштећење сулкусног епитела (плочасто слојевити који не орожава - јункционална зона) што представља иницијалну фазу ка оштећењу периодонцијум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 даљем току болести одвијају се атрофични, дегенеративни, алтернативни и продуктивни процес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тална прогресија процеса води ка ишчезавању потпорног апарата и испадања зуб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2"/>
          <p:cNvSpPr/>
          <p:nvPr/>
        </p:nvSpPr>
        <p:spPr>
          <a:xfrm>
            <a:off x="642960" y="85716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тавна јединица 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4"/>
          <p:cNvSpPr/>
          <p:nvPr/>
        </p:nvSpPr>
        <p:spPr>
          <a:xfrm>
            <a:off x="0" y="3143160"/>
            <a:ext cx="9144000" cy="1920960"/>
          </a:xfrm>
          <a:prstGeom prst="rect">
            <a:avLst/>
          </a:prstGeom>
          <a:solidFill>
            <a:srgbClr val="ffffff"/>
          </a:solidFill>
          <a:ln w="9360">
            <a:solidFill>
              <a:srgbClr val="facaa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ЕСТИ ПАРАОДОНЦИЈУМ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99520" y="20448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Болести параодонцијума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8524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108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Бактерије денталног плака блокирају процесе фагоцитозе, неутралишу фагоците - неутрофилне гранулоците који својим ензимима врше деструкцију тки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Вирулетни слојеви микроорганизама денталног плака ослобађају колагеназу која фрагментише колагена влакна везивног ткива што води до клиничке манифестације атрофије гингива у виду повлачења десни и огољевања корена зуб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99520" y="20448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Болести параодонцијума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8524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108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Хијалуронидаза разграђује међућелијски матрикс, епител постаје спонгиозан ширењем интерцелуларних простора што доприноси бржој и лакшој пропагацији деструктивног процеса ка осталим деловима периодонцијум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пецифична заштита антителима на антигене денталног плака покреће алергијску реакцију са ослобађањем хистамина који доводи до вазодилатације крвних судова, повећане пермабилности њиховог зида, едема и увећања гинги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омпромитована циркулација и оксидативни процеси успоравају регенеративно - репараторне процесе што води даљем разарањ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99520" y="20448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Болести параодонцијума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8524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108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ПАРОДОНТАЛНИ ЏЕПОВ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- патолошка творевина, патогномонична за ово обољење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астала продубљивањем гингивалног сулку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- зидове парадонталног џепа чин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а) цемент корена зуба и глеђ (са једне стран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б) инфламирана гингива (са друге стране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99520" y="20448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Болести параодонцијума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8524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108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елови парадонталног џеп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1. отвор џепа према усној дупљ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2. дно џепа (апикалније од цементно - глеђне границ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3. зидови џеп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4. гнојни ексудат кога чине десквамоване епителне ћелије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меког зида, некротични детритус и полиморфонуклеарни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леукоци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5. субгингивални конкременти поља тамне боје чврсте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онзистенције на површини корена зуба настали таложењем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минералних соли из гнојног ексудата или гингивалне теч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99520" y="20448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Болести параодонцијума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Picture 5" descr="b"/>
          <p:cNvPicPr/>
          <p:nvPr/>
        </p:nvPicPr>
        <p:blipFill>
          <a:blip r:embed="rId1"/>
          <a:stretch/>
        </p:blipFill>
        <p:spPr>
          <a:xfrm>
            <a:off x="866880" y="1468440"/>
            <a:ext cx="7331040" cy="381312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6"/>
          <p:cNvSpPr/>
          <p:nvPr/>
        </p:nvSpPr>
        <p:spPr>
          <a:xfrm>
            <a:off x="1456920" y="5335560"/>
            <a:ext cx="537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стискивање садржаја пародонталног џеп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99520" y="20448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Болести параодонцијума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8524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108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Хронични периодонтитис карактериш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1. хронична инфламација - доминирају плазмоцити који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нфилтришу супраалвеоларно везивно тки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2. деструкција периодонталног лигамента - прогресиван губитак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ериодонталних влакана под дејством колагеназа из бактерија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 макрофаг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3. деструкција алвеоларне кости - активацијом остеокласта или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хумуралним механизми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4. миграција јункционалног епитела (под џепа)и епителног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ипоја у правцу апекса корена зуба са продубљивањем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гингивалног џеп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99520" y="20448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Болести параодонцијума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Picture 3" descr="55-56"/>
          <p:cNvPicPr/>
          <p:nvPr/>
        </p:nvPicPr>
        <p:blipFill>
          <a:blip r:embed="rId1"/>
          <a:stretch/>
        </p:blipFill>
        <p:spPr>
          <a:xfrm>
            <a:off x="1882800" y="1481040"/>
            <a:ext cx="5886360" cy="410688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4"/>
          <p:cNvSpPr/>
          <p:nvPr/>
        </p:nvSpPr>
        <p:spPr>
          <a:xfrm>
            <a:off x="2977920" y="5589720"/>
            <a:ext cx="317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Хронични периодонтити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99520" y="20448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Болести параодонцијума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Picture 3" descr="57-58"/>
          <p:cNvPicPr/>
          <p:nvPr/>
        </p:nvPicPr>
        <p:blipFill>
          <a:blip r:embed="rId1"/>
          <a:stretch/>
        </p:blipFill>
        <p:spPr>
          <a:xfrm>
            <a:off x="1589040" y="1571760"/>
            <a:ext cx="5983200" cy="422100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4"/>
          <p:cNvSpPr/>
          <p:nvPr/>
        </p:nvSpPr>
        <p:spPr>
          <a:xfrm>
            <a:off x="2967120" y="5830920"/>
            <a:ext cx="317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Хронични периодонтити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99520" y="20448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Болести параодонцијума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8524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108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ериодонтитис има успорен ток који може да траје и неколико десетина годин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еструкцијом потпорног ткив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- џепови се продубљуј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- алвеоларна кост се ресорбуј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- корен зуба губи потпор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- између зуба и алвеоларне кости ствара се инфракостни џеп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због недостатка приодонталног лигамен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99520" y="20448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Болести параодонцијума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8524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108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Лабављење зуба настај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- деструкцијом алвеоларне кости и периодонталног лигамен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- повећаног дејства сила на један зуб или групу зуба односно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трауматска оклузија са проширењем периодонталног просто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- запаљенски ексудат и инфилтрат који врши компресију и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оводи до екструзије зуб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99520" y="20448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Болести параодонцијума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8524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108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ародонтопатије подразумевају обољења која захватају потпорни апарат зуба, са деструкцијом потпорног тки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Захваћени су гингива, алвеоларна кост, периодонтални лигамент, цемент зуба удружени са бактеријском плочом присутном на зубима и десним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очетна фаза болести је нелечени хронични гингивитис који прелази у хронични периодонтитис са последичним губитком зуб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99520" y="20448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Болести параодонцијума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8524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108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атолошка миграција зуба је промена положаја зуба и миграција у било ком правцу у току пародонтопатије усле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- запаљенског ексудата и инфилтрат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- разарања пародонцијума и губитка потпор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- формираног пародонталног џеп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99520" y="20448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Болести параодонцијума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Picture 3" descr="v"/>
          <p:cNvPicPr/>
          <p:nvPr/>
        </p:nvPicPr>
        <p:blipFill>
          <a:blip r:embed="rId1"/>
          <a:stretch/>
        </p:blipFill>
        <p:spPr>
          <a:xfrm>
            <a:off x="2340000" y="1170000"/>
            <a:ext cx="4092480" cy="474804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4"/>
          <p:cNvSpPr/>
          <p:nvPr/>
        </p:nvSpPr>
        <p:spPr>
          <a:xfrm>
            <a:off x="1400760" y="5997600"/>
            <a:ext cx="618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атолошка миграција зуба у току пародонтопатиј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99520" y="20448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Болести параодонцијума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8524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108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ОМПЛИКАЦИЈЕ ПАРОДОНОТПАТИЈ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оузрокују брже разарање потпорног апарата зуба и наглашене субјективне тегоб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99520" y="20448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Болести параодонцијума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8524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108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ОМПЛИКАЦИЈЕ С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пародонтални апсцес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је најчешћа компикација и представља ограничену гнојну колекцију насталу услед отежане дренаже гнојног ексудата из пародонталног џепа због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а) едема гингиве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б) дубоких и уских џепов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в) субгингивалних конкременат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г) ресорпције алвеоларне к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99520" y="20448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Болести параодонцијума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8524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108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Апсцес може бити акутног и хроничног то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Акутни пародонтални апсцес праћен је пулсирајућим болом, отоком регионалних лимфних жлез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Хронични пародонтални апсцес је локализована гнојна колекција у алвеоларној кости и гингиви која преко фистулозног канала комуницира са усном дупљом и дренира гној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аћен је тупим болом а понекад протиче и асимптоматс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99520" y="20448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Болести параодонцијума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" name="Picture 4" descr="g"/>
          <p:cNvPicPr/>
          <p:nvPr/>
        </p:nvPicPr>
        <p:blipFill>
          <a:blip r:embed="rId1"/>
          <a:stretch/>
        </p:blipFill>
        <p:spPr>
          <a:xfrm>
            <a:off x="1638360" y="1390680"/>
            <a:ext cx="5730840" cy="424800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5"/>
          <p:cNvSpPr/>
          <p:nvPr/>
        </p:nvSpPr>
        <p:spPr>
          <a:xfrm>
            <a:off x="2660760" y="5743440"/>
            <a:ext cx="36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Акутни пародонтални апсце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99520" y="20448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Болести параодонцијума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" name="Picture 4" descr="d"/>
          <p:cNvPicPr/>
          <p:nvPr/>
        </p:nvPicPr>
        <p:blipFill>
          <a:blip r:embed="rId1"/>
          <a:stretch/>
        </p:blipFill>
        <p:spPr>
          <a:xfrm>
            <a:off x="1222200" y="1327320"/>
            <a:ext cx="6729480" cy="438120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5"/>
          <p:cNvSpPr/>
          <p:nvPr/>
        </p:nvSpPr>
        <p:spPr>
          <a:xfrm>
            <a:off x="1896840" y="5821200"/>
            <a:ext cx="556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Хронични пародонтални апсцес са фистул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99520" y="20448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Болести параодонцијума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" name="Picture 4" descr="59-60"/>
          <p:cNvPicPr/>
          <p:nvPr/>
        </p:nvPicPr>
        <p:blipFill>
          <a:blip r:embed="rId1"/>
          <a:stretch/>
        </p:blipFill>
        <p:spPr>
          <a:xfrm>
            <a:off x="1697040" y="1566720"/>
            <a:ext cx="5797440" cy="412452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5"/>
          <p:cNvSpPr/>
          <p:nvPr/>
        </p:nvSpPr>
        <p:spPr>
          <a:xfrm>
            <a:off x="2925720" y="5743440"/>
            <a:ext cx="279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ародонтални апсце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99520" y="20448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Болести параодонцијума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Picture 4" descr="61-62"/>
          <p:cNvPicPr/>
          <p:nvPr/>
        </p:nvPicPr>
        <p:blipFill>
          <a:blip r:embed="rId1"/>
          <a:stretch/>
        </p:blipFill>
        <p:spPr>
          <a:xfrm>
            <a:off x="1731960" y="1460520"/>
            <a:ext cx="5759280" cy="416412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5"/>
          <p:cNvSpPr/>
          <p:nvPr/>
        </p:nvSpPr>
        <p:spPr>
          <a:xfrm>
            <a:off x="1875240" y="5567400"/>
            <a:ext cx="540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ародонтални апсцес са апсорпцијом к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99520" y="20448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Болести параодонцијума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8524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108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 Пулпитис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- продор микроорганизама из пародонталног џепа преко врха корена зуба у пулпу и даље асцедентним путем према круници - ретроградни пулпити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Инфекција околних ткива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- продором микроорганизам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а) из дубоких пародонталних џепова у пределу молара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горње вилице у максиларни синус (</a:t>
            </a:r>
            <a:r>
              <a:rPr b="0" i="1" lang="sr-CS" sz="2000" spc="-1" strike="noStrike">
                <a:solidFill>
                  <a:srgbClr val="000000"/>
                </a:solidFill>
                <a:latin typeface="Arial"/>
              </a:rPr>
              <a:t>максиларни </a:t>
            </a:r>
            <a:r>
              <a:rPr b="0" i="1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sr-CS" sz="2000" spc="-1" strike="noStrike">
                <a:solidFill>
                  <a:srgbClr val="000000"/>
                </a:solidFill>
                <a:latin typeface="Arial"/>
              </a:rPr>
              <a:t>синузитис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б) у регионалне лимфне жлезде (</a:t>
            </a:r>
            <a:r>
              <a:rPr b="0" i="1" lang="sr-Latn-CS" sz="2000" spc="-1" strike="noStrike">
                <a:solidFill>
                  <a:srgbClr val="000000"/>
                </a:solidFill>
                <a:latin typeface="Arial"/>
              </a:rPr>
              <a:t>lymphaadenitis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в) у ткиво пода усне дупље </a:t>
            </a:r>
            <a:r>
              <a:rPr b="0" i="1" lang="sr-C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sr-Latn-CS" sz="2000" spc="-1" strike="noStrike">
                <a:solidFill>
                  <a:srgbClr val="000000"/>
                </a:solidFill>
                <a:latin typeface="Arial"/>
              </a:rPr>
              <a:t>flegmona baseosoris - </a:t>
            </a:r>
            <a:r>
              <a:rPr b="0" i="1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sr-Latn-CS" sz="2000" spc="-1" strike="noStrike">
                <a:solidFill>
                  <a:srgbClr val="000000"/>
                </a:solidFill>
                <a:latin typeface="Arial"/>
              </a:rPr>
              <a:t>Ludvigova angina</a:t>
            </a:r>
            <a:r>
              <a:rPr b="0" i="1" lang="sr-C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г) у циркулацију </a:t>
            </a:r>
            <a:r>
              <a:rPr b="0" i="1" lang="sr-C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sr-Latn-CS" sz="2000" spc="-1" strike="noStrike">
                <a:solidFill>
                  <a:srgbClr val="000000"/>
                </a:solidFill>
                <a:latin typeface="Arial"/>
              </a:rPr>
              <a:t>septikemia</a:t>
            </a:r>
            <a:r>
              <a:rPr b="0" i="1" lang="sr-C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99520" y="20448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Болести параодонцијума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8524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108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Гингивити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Запаљенски процес гингиве као резултат реакције на оштећења и надражаје које изазивај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1. биолошки фактори (микроорганизми и њихови продукти и т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најчешће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porfiromonas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actinobacilus actinomycetemcomitans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, грам негативне бактерије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2. механички фактор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3. хемијски фактор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2563920" y="1204920"/>
            <a:ext cx="3022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99520" y="20448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Болести параодонцијума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8524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108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Пародонтална циста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- шупљина у алвеоларној кости обложена епитело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Сензибилизација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и развој алергијских реакција на проузроковаче, њихове продукте као и продукте некротичног ткива са развојем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консекутивних обољења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удаљених орга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99520" y="20448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Болести параодонцијума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8524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108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Рани почетак и рапидни прогресивни периодонтитис одрасли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Локализовани јувенилни периодонтити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Препубертетни периодонтити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99520" y="20448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Болести параодонцијума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8524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17892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Локализовани јувенилни периодонтити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892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- рапидно пропадање периодонталног ткива сталних зуба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главном мола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892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- јавља се подједнако код мушкараца и жена у доба пуберте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892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- може се јавити и у оквиру системских обољењ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892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- присутна је породична предиспозиц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892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- непосредни узрок може бити инфекција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Actinobacillus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Actinomycetekomitans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бактеријом која лучи лекутокси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892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- губутак премолара и секутића уз одсутни гингивити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892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- дегенерација периодонталних влакана без пратећег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запаљенског инфилтрата и умерени едем везивног тки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99520" y="20448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Болести параодонцијума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8524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108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Препубертетни периодонтити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- јавља се код деце са дисфункцијом лозе неутрофила или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моноцита удружен са дефектом фагоцитоз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99520" y="20448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Болести параодонцијума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8524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108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Рапидни прогресивни периодонтитис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може се јавити и у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клопу следећих обољењ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Downov sindo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леукопен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- неконтролисани дијабетес мелиту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HIV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нфекц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- хипофосфатаз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apillon Lefevre sind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- Ehlers Danlos sind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еозинофилни гранул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99520" y="20448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Болести параодонцијума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8524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108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Хипертрофија гингив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1. фиброзна хиперплазије гингиве узрокована умножавањем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везивног тки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2. нефиброзно увећање гингиве настало услед накупина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запаљенских ћелија или других инфилтра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99520" y="20448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Болести параодонцијума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8524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108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1. Фиброзна хиперплазија гингив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- генетс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- узрокована лекови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2. Нефиброзно увећање гингив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- хронични хиперпластични гингивити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- гингивитис у трудноћ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- леукемична инфилтрац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- саркоидоз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- скорбу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99520" y="20448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Болести параодонцијума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8524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108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Наследна фиброматоза гинги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- аутозомно доминанти синдро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- фиброматоза гингива удружена са хипертрихозом и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менталном ретардациј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- гингива је бледоружичаста, чврста, глатка или изгледа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оморанџине коре може потпуно да препокрије зуб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- хистолошки ткиво гингиве се састоји од дебелих снопова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олагенихвлакана без запаљенског ексуда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- лечењ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гингивектом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99520" y="20448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Болести параодонцијума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Picture 4" descr="9"/>
          <p:cNvPicPr/>
          <p:nvPr/>
        </p:nvPicPr>
        <p:blipFill>
          <a:blip r:embed="rId1"/>
          <a:stretch/>
        </p:blipFill>
        <p:spPr>
          <a:xfrm>
            <a:off x="1611360" y="1542960"/>
            <a:ext cx="6283440" cy="39132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99520" y="20448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Болести параодонцијума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9" name="Picture 4" descr="10"/>
          <p:cNvPicPr/>
          <p:nvPr/>
        </p:nvPicPr>
        <p:blipFill>
          <a:blip r:embed="rId1"/>
          <a:stretch/>
        </p:blipFill>
        <p:spPr>
          <a:xfrm>
            <a:off x="893880" y="2511360"/>
            <a:ext cx="4549680" cy="289080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5" descr="63"/>
          <p:cNvPicPr/>
          <p:nvPr/>
        </p:nvPicPr>
        <p:blipFill>
          <a:blip r:embed="rId2"/>
          <a:stretch/>
        </p:blipFill>
        <p:spPr>
          <a:xfrm>
            <a:off x="5783400" y="1322280"/>
            <a:ext cx="2933640" cy="4125960"/>
          </a:xfrm>
          <a:prstGeom prst="rect">
            <a:avLst/>
          </a:prstGeom>
          <a:ln w="0">
            <a:noFill/>
          </a:ln>
        </p:spPr>
      </p:pic>
      <p:sp>
        <p:nvSpPr>
          <p:cNvPr id="191" name="Text Box 6"/>
          <p:cNvSpPr/>
          <p:nvPr/>
        </p:nvSpPr>
        <p:spPr>
          <a:xfrm>
            <a:off x="1398600" y="5522760"/>
            <a:ext cx="611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рођена гингивална хиперплазија и фиброматоз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99520" y="20448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Болести параодонцијума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8524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108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омене на гингиви с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а) ексудативн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б) алтернативне (некроз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в) пролиферативне (везивне ћелије и влакн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99520" y="20448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Болести параодонцијума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3" name="Picture 3" descr="25"/>
          <p:cNvPicPr/>
          <p:nvPr/>
        </p:nvPicPr>
        <p:blipFill>
          <a:blip r:embed="rId1"/>
          <a:stretch/>
        </p:blipFill>
        <p:spPr>
          <a:xfrm>
            <a:off x="1812960" y="1560600"/>
            <a:ext cx="6113520" cy="3925800"/>
          </a:xfrm>
          <a:prstGeom prst="rect">
            <a:avLst/>
          </a:prstGeom>
          <a:ln w="0">
            <a:noFill/>
          </a:ln>
        </p:spPr>
      </p:pic>
      <p:sp>
        <p:nvSpPr>
          <p:cNvPr id="194" name="Rectangle 4"/>
          <p:cNvSpPr/>
          <p:nvPr/>
        </p:nvSpPr>
        <p:spPr>
          <a:xfrm>
            <a:off x="3212280" y="5587200"/>
            <a:ext cx="296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Хиперплазија гингив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99520" y="20448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Болести параодонцијума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6" name="Picture 4" descr="24"/>
          <p:cNvPicPr/>
          <p:nvPr/>
        </p:nvPicPr>
        <p:blipFill>
          <a:blip r:embed="rId1"/>
          <a:stretch/>
        </p:blipFill>
        <p:spPr>
          <a:xfrm>
            <a:off x="1974960" y="1317600"/>
            <a:ext cx="5678280" cy="4533840"/>
          </a:xfrm>
          <a:prstGeom prst="rect">
            <a:avLst/>
          </a:prstGeom>
          <a:ln w="0">
            <a:noFill/>
          </a:ln>
        </p:spPr>
      </p:pic>
      <p:sp>
        <p:nvSpPr>
          <p:cNvPr id="197" name="Rectangle 5"/>
          <p:cNvSpPr/>
          <p:nvPr/>
        </p:nvSpPr>
        <p:spPr>
          <a:xfrm>
            <a:off x="2915640" y="5861880"/>
            <a:ext cx="296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Хиперплазија гингив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99520" y="20448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Болести параодонцијума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Picture 4" descr="26"/>
          <p:cNvPicPr/>
          <p:nvPr/>
        </p:nvPicPr>
        <p:blipFill>
          <a:blip r:embed="rId1"/>
          <a:stretch/>
        </p:blipFill>
        <p:spPr>
          <a:xfrm>
            <a:off x="1693800" y="1506600"/>
            <a:ext cx="6164280" cy="4138560"/>
          </a:xfrm>
          <a:prstGeom prst="rect">
            <a:avLst/>
          </a:prstGeom>
          <a:ln w="0">
            <a:noFill/>
          </a:ln>
        </p:spPr>
      </p:pic>
      <p:sp>
        <p:nvSpPr>
          <p:cNvPr id="200" name="Rectangle 5"/>
          <p:cNvSpPr/>
          <p:nvPr/>
        </p:nvSpPr>
        <p:spPr>
          <a:xfrm>
            <a:off x="2539800" y="5740920"/>
            <a:ext cx="426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Фиброзна хиперплазија гингив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99520" y="20448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Болести параодонцијума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2" name="Picture 4" descr="27"/>
          <p:cNvPicPr/>
          <p:nvPr/>
        </p:nvPicPr>
        <p:blipFill>
          <a:blip r:embed="rId1"/>
          <a:stretch/>
        </p:blipFill>
        <p:spPr>
          <a:xfrm>
            <a:off x="1801800" y="1319040"/>
            <a:ext cx="5813280" cy="4673880"/>
          </a:xfrm>
          <a:prstGeom prst="rect">
            <a:avLst/>
          </a:prstGeom>
          <a:ln w="0">
            <a:noFill/>
          </a:ln>
        </p:spPr>
      </p:pic>
      <p:sp>
        <p:nvSpPr>
          <p:cNvPr id="203" name="Rectangle 5"/>
          <p:cNvSpPr/>
          <p:nvPr/>
        </p:nvSpPr>
        <p:spPr>
          <a:xfrm>
            <a:off x="2495160" y="6093360"/>
            <a:ext cx="426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Фиброзна хиперплазија гингив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99520" y="20448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Болести параодонцијума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5" name="Picture 4" descr="42a"/>
          <p:cNvPicPr/>
          <p:nvPr/>
        </p:nvPicPr>
        <p:blipFill>
          <a:blip r:embed="rId1"/>
          <a:stretch/>
        </p:blipFill>
        <p:spPr>
          <a:xfrm>
            <a:off x="2373480" y="1496880"/>
            <a:ext cx="5101920" cy="3821400"/>
          </a:xfrm>
          <a:prstGeom prst="rect">
            <a:avLst/>
          </a:prstGeom>
          <a:ln w="0">
            <a:noFill/>
          </a:ln>
        </p:spPr>
      </p:pic>
      <p:sp>
        <p:nvSpPr>
          <p:cNvPr id="206" name="Rectangle 5"/>
          <p:cNvSpPr/>
          <p:nvPr/>
        </p:nvSpPr>
        <p:spPr>
          <a:xfrm>
            <a:off x="2959920" y="5464800"/>
            <a:ext cx="318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Субмукозална фиброз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99520" y="20448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Болести параодонцијума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8" name="Picture 4" descr="42b"/>
          <p:cNvPicPr/>
          <p:nvPr/>
        </p:nvPicPr>
        <p:blipFill>
          <a:blip r:embed="rId1"/>
          <a:stretch/>
        </p:blipFill>
        <p:spPr>
          <a:xfrm>
            <a:off x="1654200" y="1401840"/>
            <a:ext cx="5932440" cy="448452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5"/>
          <p:cNvSpPr/>
          <p:nvPr/>
        </p:nvSpPr>
        <p:spPr>
          <a:xfrm>
            <a:off x="2696400" y="5850720"/>
            <a:ext cx="318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Субмукозална фиброз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99520" y="20448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Болести параодонцијума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1" name="Picture 4" descr="28"/>
          <p:cNvPicPr/>
          <p:nvPr/>
        </p:nvPicPr>
        <p:blipFill>
          <a:blip r:embed="rId1"/>
          <a:stretch/>
        </p:blipFill>
        <p:spPr>
          <a:xfrm>
            <a:off x="1819440" y="1486080"/>
            <a:ext cx="5924520" cy="4008240"/>
          </a:xfrm>
          <a:prstGeom prst="rect">
            <a:avLst/>
          </a:prstGeom>
          <a:ln w="0">
            <a:noFill/>
          </a:ln>
        </p:spPr>
      </p:pic>
      <p:sp>
        <p:nvSpPr>
          <p:cNvPr id="212" name="Rectangle 5"/>
          <p:cNvSpPr/>
          <p:nvPr/>
        </p:nvSpPr>
        <p:spPr>
          <a:xfrm>
            <a:off x="2792880" y="5598360"/>
            <a:ext cx="350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Запаљенска хиперплаз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99520" y="20448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Болести параодонцијума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4" name="Picture 4" descr="29"/>
          <p:cNvPicPr/>
          <p:nvPr/>
        </p:nvPicPr>
        <p:blipFill>
          <a:blip r:embed="rId1"/>
          <a:stretch/>
        </p:blipFill>
        <p:spPr>
          <a:xfrm>
            <a:off x="2276640" y="1393920"/>
            <a:ext cx="4809960" cy="4333680"/>
          </a:xfrm>
          <a:prstGeom prst="rect">
            <a:avLst/>
          </a:prstGeom>
          <a:ln w="0">
            <a:noFill/>
          </a:ln>
        </p:spPr>
      </p:pic>
      <p:sp>
        <p:nvSpPr>
          <p:cNvPr id="215" name="Rectangle 5"/>
          <p:cNvSpPr/>
          <p:nvPr/>
        </p:nvSpPr>
        <p:spPr>
          <a:xfrm>
            <a:off x="2694600" y="5850720"/>
            <a:ext cx="350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Запаљенска хиперплаз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99520" y="20448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Болести параодонцијума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8524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108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Хиперплазија гингиве узрокована лекови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- дуготрајна употреба антиепилептичког лека Фенитои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- појачани раст захвата интерденталне папил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- гингиве су чврсте бледоружичасте, набубреле, лоптасте и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ерастају изнад зуб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99520" y="20448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Болести параодонцијума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8524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108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руги узроци увећања гинги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Десквамативни гингивити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- код же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- узрокова хиперсензитивном реакцијом на зубну пасту и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озметичке препарат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- гингива је едематозма, црвена са плитким улцерацијама и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есквамацијом епите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- хистолошки инфилтрисана плазмоцитим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99520" y="20448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Болести параодонцијума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8524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marL="16452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еловање денталног пла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6452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ентални плак делује штетно на гингиву, проузрокује њену инфламацију и друге патолошке промен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6452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- директним продором микроорганизама у гингив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6452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- деловањем бактеријског ендотоксина (хијалуронидаз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6452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- деловањем ензима денталног плака на гингиву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(хијалуронидаза), колагеназ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6452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- механизмом сензибилизације (микроорганизми и њихови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токсини могу да сензибилишу ткиво гингиве и да дође до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окретања хуморалног и ћелијски посредованог одговора на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антигене као и хиперсензитивних реакциј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6452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- каустичним деловањем (неки састојци денталног плака -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млечна киселина, оштећују гингиву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99520" y="20448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Болести параодонцијума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8524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108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Перикоронити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- локализовано запаљење меког ткива које непотпуно облаже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оњу трећину мола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- развија се задржавањем бактеријског плакаиспод поклопц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- јака запаљенска инфитрација и едем се шире у околно ткиво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 могу довести до тризму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99520" y="20448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Болести параодонцијума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8524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108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руги облици гингивити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Gingivitis acuta ulcero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- најчешће обољевају малђе особе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- пушач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- пацијенти оболели од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HIV-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- изазивају га спирохете и фузиформне бактериј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- обољење протиче без грознице и лимфаденопатиј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99520" y="20448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Болести параодонцијума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8524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108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- стварају се улцерације на врховима интерденталних папила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оје профузно крваре и које се шире дуж ивица гингив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- улцерације су прекривене сивкастим и жућкастим крастам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- хистолошки присутна је некроза са улцерација прекривеним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сеудомембранама од фибрина, некротичних ћелија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еутрофила и бактер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- ширење процеса у дубину узрокује деструкцију меког ткива и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ости стварајући троугласти простор између зуб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- деформације нормалних контура гинги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99520" y="20448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Болести параодонцијума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8524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108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оцес развоја гингивитиса пролази кроз три фаз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1. почетна лез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2. рана лез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3. развијена лез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99520" y="20448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Болести параодонцијума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8524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marL="16632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1. Почетна лез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6632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- настаје четири дана након акумулације бактеријског пла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6632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- макроскопски без евидентних проме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6632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- локализује се око базе физиолошког гингивалног сулкуса који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је ограничен глеђи, сулкусним епителом и слободном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овршином слободног епите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6632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- хистолошка слик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6632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- вазодилатација капила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6632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- ексудација теч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6632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- инфилтрација међућелијских простора ћелија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ипојног епитела полиморфонуклеарним леукоцити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6632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- дилатација и деструкција међућелијских просто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99520" y="20448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Болести параодонцијума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8524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108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2. Рана лез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- развија се од 4 до 7 дана од почетка стварања пла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- инфилтрација неутрофилним гранулоцитима раст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- кидају се међућелијске везе у припојном епител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- долази до деструкције припоја ткива гингиве за глеђ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- гингивални сулкус се продубљује и развија се субгингивални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лак, уз умножавање гра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егативних бактер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- гингиву инфилтришу лимфоцит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- базалне ћелије припојног епитела пролиферишу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7T23:54:21Z</dcterms:created>
  <dc:creator/>
  <dc:description>PresentationLoad.com</dc:description>
  <dc:language>en-US</dc:language>
  <cp:lastModifiedBy>Dalibor Jovanovic</cp:lastModifiedBy>
  <dcterms:modified xsi:type="dcterms:W3CDTF">2023-02-06T12:05:34Z</dcterms:modified>
  <cp:revision>333</cp:revision>
  <dc:subject/>
  <dc:title>PowerPoint Template</dc:title>
</cp:coreProperties>
</file>